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3AEA-9FC1-4EA7-A758-1589C6B2759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B6F9-ECAF-4DC6-B134-861A0975643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EDEB-86B4-42E7-81D7-CD6DF4D2011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14B9-D6FB-41F4-94F9-428BF91120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8E5D-8DB7-460C-A5A3-4BDE26F15B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006F-5D59-4204-BB1D-8846E76AD5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DBC7-5065-433E-B1E6-5F4F802FDD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782C-FCD5-4979-A8F2-AAD10F46D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3CCC-A065-406D-A7E8-491F1D5CE7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01F7-BA9A-4FB5-97F5-FCB5CE2AE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EBF8-FDFA-4FB4-AB9C-D828B9A978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3A9C-2CCF-461D-9652-E0AAF38110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9274-8712-42E8-BB3F-8976D300E5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DB45-CB4E-406A-AA82-2879A8BD43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40A3-24EE-4D59-97AC-86F01A62D0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91E5-85EC-4484-AB89-A840339683E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6000"/>
          </a:bodyPr>
          <a:p>
            <a:pPr marL="260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60640" indent="-26064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60640" indent="-26064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60640" indent="-26064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9000"/>
          </a:bodyPr>
          <a:p>
            <a:pPr marL="52452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3124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137960" indent="-3405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44468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751400" indent="-3402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9C3D-9763-4E18-90F1-AA62BECF591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422-1F41-4CBA-8400-768FF147CD5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1407-39A5-4CF9-BDB3-C24C4B70A3F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048A-7239-4F5C-AC30-3CC5A95D30E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CFD0-EC07-467B-B102-D9B8623F662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A38-892E-4D0C-AE15-2B50621C5D3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8454-F701-4633-A741-E47A18FFD03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954E-437E-45B4-A5BE-60C771EE09B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65B-9476-4542-9C1D-81D32E134E9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1B74-C52A-4F5F-9DE3-347D47AE2E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9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cc0006"/>
                      </a:solidFill>
                    </a:lnL>
                    <a:lnR w="12240">
                      <a:solidFill>
                        <a:srgbClr val="cc0006"/>
                      </a:solidFill>
                    </a:lnR>
                    <a:lnT w="12240">
                      <a:solidFill>
                        <a:srgbClr val="cc0006"/>
                      </a:solidFill>
                    </a:lnT>
                    <a:lnB w="12240">
                      <a:solidFill>
                        <a:srgbClr val="cc000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63"/>
          <p:cNvSpPr/>
          <p:nvPr/>
        </p:nvSpPr>
        <p:spPr>
          <a:xfrm>
            <a:off x="647640" y="619776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32E-712A-4FFB-9EF1-C817E97A35C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1961-97B5-4097-8666-550C852D38A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532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0699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A38A-2D4E-49F3-94A5-3204EB77E25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9D3-F42E-4FCF-82A9-7F6229C38B3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99B4-B6D6-4C97-8170-AE192514085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1F2D-38C1-44EE-9D87-4690E7366B1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D25-D2A5-4120-A4C2-0D35C3F7034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5FD-A104-41D2-B2F3-446288CFAF7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2397-7992-4523-9A42-726571A290A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C2CD-A97C-442F-85C7-67A9C53C3A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EAA3-E0D1-4072-A8C5-A7A1F5DDAD1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CC4B-541C-4E46-9012-3D26C598E22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9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4A55-359A-4055-AC2A-CB24ADB8474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#SekretaerinnenVonStuder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SusanneWint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4D7F-CDDD-41DA-B039-0C713AF51C7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51E4-2383-43A2-8174-2FAE433E626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54F7-A63C-485C-9C73-B4B50F7C5D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about="#AngehoerigeAG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8F61-953B-47C5-AFDC-62238EBABA4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4428-CDC7-4405-B3EE-0CBD7CB404A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0C8C-9C67-4CF4-A95D-2634362F967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6576-9701-401A-9ECA-951E8C12AEF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73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087-0E33-49A6-AC4F-F533345FC3C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609C-14E0-4AB8-9F66-EACEE59AE73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755-D7E7-4426-8267-878F885A934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1926-49E9-4D82-9F98-710DE56017D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9D1-AE47-4D7F-B893-A7D58A6043B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4DE5-7194-4B97-B978-38D4B27B294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2A96-13D5-4393-A158-16BBD7C01CD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#RudiStuder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6BB-7564-4452-8234-EB054CE4703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7557-0996-4CFA-AE98-FB93B3A8B71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F57-C7F2-4555-94E2-4CCE8B03F2B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79F-866E-4F67-B751-B2EA27B3F37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1C60-7BDF-4D6A-85AD-C537B424439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52E2-9E23-4D23-8BD0-F120200997B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74E2-A43F-4BFB-AC14-6609E9A4087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BEB7-B77B-49FB-9A19-051D19A7BA6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02BD-2579-4F19-B140-6304A67CB06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8CC2-409F-475B-9410-550D3F4D154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4AAB-9524-4E02-80DC-9B57776FBBA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454-1193-4E9D-A51E-41D79BF66A2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E5FD-8DEF-4EEC-880C-247750F9439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35200" indent="-5367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EC88-46F8-442D-B49A-46A41EA06D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A7C-D059-4B89-9410-E06B6F0562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DF6-DBA0-4B48-A59E-D36D6F49386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587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9EDB-65C9-44C7-A2C2-79181CFBE1C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FAD2-1303-4C72-AE64-A577B3E69BC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EB63-26B8-48AE-855F-070C9E6B314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F1D-C114-468E-9662-55F9600138D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3F52-2443-42C5-8E58-9B207B6B1EB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424-8D68-4781-9ED7-991765BA74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4676-487E-4155-94B3-C7FC0BFF85D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1A1E-954E-474F-875F-2274D72587B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59640" indent="-3222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56B-F8F6-44FC-9D0C-D292F3DD8EF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D3D-894F-4942-9324-C8B690BB36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90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1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4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6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7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9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400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2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3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5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6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8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6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7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8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9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1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2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3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4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3"/>
          <p:cNvSpPr/>
          <p:nvPr/>
        </p:nvSpPr>
        <p:spPr>
          <a:xfrm>
            <a:off x="8048160" y="3338640"/>
            <a:ext cx="150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7958520" y="4076640"/>
            <a:ext cx="2347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Rectangle 45"/>
          <p:cNvSpPr/>
          <p:nvPr/>
        </p:nvSpPr>
        <p:spPr>
          <a:xfrm>
            <a:off x="6718680" y="2247840"/>
            <a:ext cx="2241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5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6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8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9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1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2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4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5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7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8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1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3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4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5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6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7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9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60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2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4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5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6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7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2"/>
          <p:cNvSpPr/>
          <p:nvPr/>
        </p:nvSpPr>
        <p:spPr>
          <a:xfrm>
            <a:off x="1972080" y="7340760"/>
            <a:ext cx="3201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8008-2B12-4A00-BFA8-161A6E473A0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67200" indent="-3290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51320" indent="-27432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2:35:37Z</dcterms:created>
  <dc:creator/>
  <dc:description/>
  <cp:keywords/>
  <dc:language>en-US</dc:language>
  <cp:lastModifiedBy>Sebastian Rudolph</cp:lastModifiedBy>
  <dcterms:modified xsi:type="dcterms:W3CDTF">2008-12-02T22:47:49Z</dcterms:modified>
  <cp:revision>2</cp:revision>
  <dc:subject/>
  <dc:title>Grundlagen Semantic Web</dc:title>
</cp:coreProperties>
</file>